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2077-B499-4730-869F-80BAB949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9FC1-9D2C-44DF-A8CE-F3608839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9320-A4A3-4733-A6C2-392F51D83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BD95-3428-40AC-8F46-926CEC48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94C7-CA52-438C-AF40-7705505B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E924-88F9-4910-B45D-C4486EB1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ED70-707F-4A98-85D4-8B3E73E2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896-53E3-488E-BB77-96FE39DC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233B-6368-409F-BC5D-98A5EA08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5553-E805-4280-A7B3-18079FE5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BBEE-B06F-4DE7-BEB2-BD2DF32C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A41B-CA2A-4AF6-8EFE-DFB45ABB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03F6-79F9-4B91-A10B-CEE02077D7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6E5AC4A3-B39D-4CBA-8E5C-6AD6B884BF9E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ИНИСТЕРСТВО НАУКИ И ВЫСШЕГО ОБРАЗОВАНИЯ РОССИЙСКОЙ ФЕДЕРАЦИИ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едеральное государственное бюджетное образовательное учреждение высшего образования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«Рязанский государственный радиотехнический университет имени В.Ф. Уткина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федра промышленной электрон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0" y="1557360"/>
            <a:ext cx="9144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4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выпускной квалификационной работе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 выпускной квалификационной рабо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0" y="429264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учающийся: студент гр. 723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тров И.С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ководитель: к.т.н., доцен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оров А.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язань, 201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C8EF8DE4-0BFD-4768-ABA5-01B331012006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ыводы по работ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65F04F82-B6EC-41E2-AD85-1290D0ED907E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0" y="11160"/>
            <a:ext cx="914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убликации по работе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0" y="98100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робация результатов работы производилас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2-х конференци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0" y="371628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ьтаты работы были опубликованы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2-х научных стать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49925F5A-50BF-418B-8647-267D3FB40BAD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ктуальность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0" y="335772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учная новизна работы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FD0D0DF8-F827-40A8-A032-1E415D5366C8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ель и задачи рабо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87FA10F2-C2E3-4BBB-B14D-B24550B7DAB0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оретическая часть (кратк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2AB345DA-004E-4913-94FA-388BD1DECB61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четная часть (кратк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98B595D4-CE52-4383-90FB-BA94EF672A88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3224DE29-2557-4C26-9A1C-E889AE59C634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20C79D2C-0043-481A-B854-4B4D7B9585D8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E7F91ECA-E5E9-4FC8-8688-9ABA80BF8AFA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6:13:54Z</dcterms:created>
  <dc:creator>Пользователь Windows</dc:creator>
  <dc:description/>
  <dc:language>en-US</dc:language>
  <cp:lastModifiedBy>ASUS</cp:lastModifiedBy>
  <dcterms:modified xsi:type="dcterms:W3CDTF">2019-06-20T03:33:41Z</dcterms:modified>
  <cp:revision>23</cp:revision>
  <dc:subject/>
  <dc:title>МИНИСТЕРСТВО НАУКИ И ВЫСШЕГО ОБРАЗОВАНИЯ  РОССИЙСКОЙ ФЕДЕРАЦИИ Федеральное государственное бюджетное образовательное учреждение  высшего образования  «Рязанский государственный радиотехнический университет имени В.Ф. Уткина» Кафедра промышленной электроники</dc:title>
</cp:coreProperties>
</file>